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0AD-96DE-4B20-8D08-6E13590D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7B8-9BE1-4E36-9C8A-3DB4FD5B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301-36D9-4B00-91ED-62E4D15F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FBC-13BF-4542-9953-1E26B406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EEF-AF64-4D84-83C6-CE00F784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B31-4BC5-4511-B6B6-B10ADD42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055-EC88-4EB4-9EB2-87367B37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C70-A26B-4E8E-A1A8-0B923CF9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B1F-C903-4E97-B873-D850ED66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FE1-CB8A-4939-AF70-F21E6C4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F25-9568-4E2E-B657-DC39594F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087-D02A-4398-A20E-63D64EEF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699F-0966-4AAE-AE60-82858EB62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ing with two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write an equation in standard form given two poi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, remember y’s on top and x’s on th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in point slope form, use the firs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rules for standard form to convert into standard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are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and Y on the left of the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eds to be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standard form given the following points, (1,1) and (3,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1 = ½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work to write the same equation in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– 2y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standard form given the following points, (2,0) and (-2,-1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7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0 = 7/2(x –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work to write the same equation in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 – 2y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12:18Z</dcterms:created>
  <dc:creator>Preferred Customer</dc:creator>
  <dc:description/>
  <dc:language>en-US</dc:language>
  <cp:lastModifiedBy>Preferred Customer</cp:lastModifiedBy>
  <dcterms:modified xsi:type="dcterms:W3CDTF">2007-12-12T20:14:30Z</dcterms:modified>
  <cp:revision>2</cp:revision>
  <dc:subject/>
  <dc:title>Starting with two points</dc:title>
</cp:coreProperties>
</file>